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8546-5C15-4D13-A041-1E4B9DCCA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8282-5FAB-4A23-9AA7-C87D907B7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11B-D526-4E5A-8E36-76BED59F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379-F4EB-4D5B-AA13-201B229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0A1-CFB3-4805-8CE9-C1D44148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1C0-8010-43DA-A322-1E08CF9E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E33-F41C-4863-BDC5-F4D2A4AC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239-75E7-4D82-AB31-49240AF3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46B-B636-47E4-992A-CFC29007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ACF-B51D-40C0-B516-238B52C5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D08-9ECD-4396-A273-1EE9358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CEE-AF0C-4688-9F44-360642F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943-0D68-43DE-9E92-55D120F0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4CD-632F-4E00-9A0E-F02A2C5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5C46-A0AA-4B17-8071-E9C775759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ЛИТИКА И СИСТЕМ ЗДРАВСТВЕНЕ ЗАШТИТЕ</a:t>
            </a:r>
            <a:br>
              <a:rPr sz="2400"/>
            </a:b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НЦЕПТ КВАЛИТЕТА ЖИВОТА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ставна јединица бр. 8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тет живота корисника здравственог система. Методе за одређивање квалитета живота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оц. др Оливера Милованови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457200" y="609480"/>
            <a:ext cx="78566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ректни – трошкови које фонд здравственог осигурања директно плаћа (лекови, плате здравствених радника, материјални трошкови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ректни – трошкови које плаћа пацијент или друштво (губитак радних дана, губитак продуктивност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хватљиви (енгл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ngib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– бол, страх, забринутост пацијент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ксни трошкови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рошкови који се не мењају са променом количине услуга или производа у краћем временском периоду (типично током 1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ријабилни трошкови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који се мењају са променама у обиму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могућ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portunity cost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изгубљена корист ако се изабере једна терапија уместо дру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ори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(енгл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enefit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"“природним"” јединицама (нпр. број спречених случајева шлога, број залечених улкуса, број излечених прелома потколенице, итд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јединицама “"корисности"” (енгл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t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за пацијента, тј. колико се при преласку из једног стања здравља у друго мења задовољство пацијента, односно његов осећај благостања. “Корисност” се обично изражава квалитетом жив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идружена до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ружена добит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economic benefi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- је добит коју има друштво, изражено у новцу, као последицу оздравље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пр. услед повратка на посао, друштво добија кроз вредност коју бивши болесник сада ств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ошкови и добити у временској перспект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ке третмане се мора одмах инвестирати велика сума (нпр. операција на коронарним артеријама), док код других улагање траје више година. Када се упоређују трошкови таквих третмана треба узети у обзир како се трошкови мењају у времену (нпр. урачунати инфлациј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валитет живота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(engl. quality of lif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литет живота обухват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јал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моционал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спекте ста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је перцепција појединца његовог положаја у животу, у контексту културних и вредносних система средине у којој живи, као и у вези са његовим циљевима, очекивањима, стандардима и бриг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 се мери квалитет живот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ри се помоћ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струмена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ји се мо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елити на два на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начину мерењ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Е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специфичности за одређену болес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ЕР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ФИ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ф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и су заправо скале које оцењују више аспеката квалитета живота посебно (нпр. социјална интеракција, покретљивост, способност да се пацијент брине сам о себ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јпознатије скале за мерење профила су: Профил утицаја болести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. Sickness Impact Profi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F-3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Нотингемски профил здрављ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нерички профили обично имају следеће дел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зичко функционисање (10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граничења улоге/физичка (4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граничења улоге/емоционална (3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цијално функционисање (2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моционално благостање (5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нергија/замор (4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 (2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шта перцепција здравља (5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тр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ономија – наука о томе како друштво одлучује шта ће производити, како ће то чинити и за ко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дравствена економија – је економија примењена на здравство. Она третира здравствене услуге као и остале услуге на тржишту, уз уважавање специф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DQOL-S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пецифични профил за квалитет живота код обољења бубре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имптоми/проблеми (12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фекти болести бубрега (8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птерећење бубрежним обољењем (4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дни статус (2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гнитивна функција (3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валитет социјалне интеракције (3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ексуална функција (2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ан (4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дек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екси своде целокупан квалитет живота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једну вреднос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бично на скали од 0 (смрт или стање без свести) до 1 (пуно здрављ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ас се од индекса највише користе године живота кориговане за квалите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Quality Adjusted Life Year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је се добијају када се број година живота помножи са квалитетом сваке године (израженим бројем између 0 и 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Генерички и специфични инстру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ерички инструменти се могу користити за мерење квалитета живота код већине бол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фични инструменти се користе за мерење квалитета живота код одређених болести, популација или функ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фармакоекономских анал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ализа минимизирања трошкова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Cost Minimisation Analysis)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примењује се када је исход две алтернативне терапије ИСТИ, па се само упоређује њихова це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ализа трошкова/клиничког ефекта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Cost Effectiveness Analysis)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примењује се у ситуацијама када се исход два алтернативна третмана мери ИСТИМ “природним” ЈЕДИНИЦАМА (нпр. број спречених шлогова), а трошкови се мере новц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фармакоекономских анал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Анализа трошкова/корисно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ost Utility Analysis)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оређује се “корисност” два различита третмана (често различитих болести), узимајући у обзир њихове трошкове изражене у новц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исност” се изражава најчешће добијеним годинама живота које су кориговане за квалите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Quality Adjusted Life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фармакоекономских анал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Трошкови/доби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ost Benefit Analysis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зрачунава се придружена добит сваког од третмана (изражено у новцу) и упоређује са њиховим трошкови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 је могуће упоређивати потпуно различите третмане (“вредност за новац”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ерспектива добијених резултат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ултати фармакоекономске анализе могу јако варирати у зависности од тачке гледишта. Нпр. фонду здравственог осигурања неће одговарати употреба врло скупог лека који ће потпуно опоравити пацијента, али друштву као целини хоће, јер се смањују трошкови његове неге и издржавањ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и основне перспективе: институционална, друштвена и индивидуал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АРМАКОЕКОНОМИ</a:t>
            </a: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Ј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ОМЕН И З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армакоекономија је на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на дисцип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која, применом економс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на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ичк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метода, пореди улагања са добијеним исходима на пољу здравствених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Њен циљ је најрационалнија могућа расподела расположивих ресурса у здрав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сторијат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Током 60-тих година у развијеним друштвима први пут примећен тренд да сваке године све већи део бруто националног доходка се троши на здравствену заштиту становништва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Тада се јављају прва систематска истраживања потрошње средстава и броја пружених услуга у великим клиничким центрима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ријат фармакоеконо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сновне концепте су први увели 1978. годин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cGhan, Rowland i Bootm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979. годин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otm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је извео прву анализу трошкови/доби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cost/benefit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зирања аминогликози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рмин “ФАРМАКОЕКОНОМИЈА је 1986. године уве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ownse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што фармакоеконо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Великој Британији се у 1994. години издвајало за лекове 65 фунти по становнику, или 8.9 рецепата по станов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Србији се у 2001. години издвајало за лекове 22 америчка долара по становнику, а у 2011. 144 америчка долара по становни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ЕФИНИЦИЈА ФАРМАКОЕКОНОМ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Фармакоекономија је наука која проучава како људи и друштво одлучују да употребе ограничене ресурсе (који су могли да се употребе за нешто друго) за производњу лекова и потрошног материјала и како их расподељују људима и друштвеним групама да би се добило на квантитету и квалитету жив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на анализира трошкове и користи побољшавања метода расподеле ресурса у производњи, дистрибуцији и потрошњи лекова и потрошног материј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фикасност, клинички ефекат и стварна корист од л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фикасн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a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лечење постиже нешто, тј. да ли "“ради”"? Процењује се у клинич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и ефека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linical effectiveness)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 у коме лек постиже ефекат у клиничкој пра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на корист од ле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ien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је лек вредан цене коју за њега плаћају појединци и друштво? Процењује се фармакоекономс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финисање основних појм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купна вредност свих ресурса који се утроше у производњи робе или услуге представља њихове трошков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ngl. c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Цена је збир трошкова робе или услуге плус профи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engl. charg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2T07:19:51Z</dcterms:created>
  <dc:creator>Admin</dc:creator>
  <dc:description/>
  <dc:language>en-US</dc:language>
  <cp:lastModifiedBy>Ucionica</cp:lastModifiedBy>
  <dcterms:modified xsi:type="dcterms:W3CDTF">2019-02-10T11:31:09Z</dcterms:modified>
  <cp:revision>14</cp:revision>
  <dc:subject/>
  <dc:title>Интегрисане академске студије фармације  Д03 ФАРМАКОЕКОНОМИЈА   Увод у фармакоекономију  Историјат и теоретске основе</dc:title>
</cp:coreProperties>
</file>